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FFF-874F-4492-A4AE-05A09306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BFA-9FA4-4CDF-B385-1F18C51C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392-BF6E-452A-8F33-488B2289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5A0E-3226-4221-8F55-0EF19A1E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1422-3262-4D6B-AF47-08732BFB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BF53-57F8-4F5A-BE1F-F23B82E3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BE5-D0B0-4142-A0E8-19E1FC92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6B2E-DE6C-4D9B-BBF6-E98CC73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1EE6-9CD8-4278-B6EC-279A325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B10-0206-481A-B512-F90A893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398-223C-428B-985B-F38B8F3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10C-D975-4951-B0C6-EA824251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8700-E569-43C7-962B-B00FE88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6AB-4099-434E-867C-BDF647F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4609-5B8E-462C-87CF-C1197852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CF71-2041-4A9F-9A6C-121D7C0F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AD84-52C5-4236-82DE-158665B0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E7D-E8B5-4AB0-8979-E67735E4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BB2-0538-4AFF-B814-A96663B4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D41-DF90-4E54-9EF8-3083632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848-342A-4D99-B795-27BF4D7E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5BC-4620-479D-8479-9765896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C6E-67D6-4FE4-B97E-131B82F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1D2-701D-449C-B233-81D9B79B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2BE-E40E-433B-BB69-BCD9CC57F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E2BE-99AC-4B92-9DBE-685CCA282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on-Equity Financing for the Compan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7" descr="C:\Users\David\AppData\Local\Microsoft\Windows\Temporary Internet Files\Content.IE5\E238QFQ5\MP900315872[1].jpg"/>
          <p:cNvPicPr/>
          <p:nvPr/>
        </p:nvPicPr>
        <p:blipFill>
          <a:blip r:embed="rId1"/>
          <a:stretch/>
        </p:blipFill>
        <p:spPr>
          <a:xfrm>
            <a:off x="4267080" y="2057400"/>
            <a:ext cx="38912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sonal Resour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ludes Family and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the funds sufficien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they withstand the possible los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will loss effect relationship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upplier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ied through generous payment terms or direct lo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financial assist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ment Consul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tion to potential custom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ller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pment sellers will finance a sale by accepting payments and taking a lien on the proper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ying a business, seller may want to stay involved and offer a payment 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siness Incuba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place that you can rent space to run your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tilize the group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are administrative supports and staf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ubators in P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nchis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gencies that assist with evaluating you for a specific franch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rchasing an existing franchi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nchise Opportun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p 5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Joint Venture and Strategic Allian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a new mark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a new product or 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complimentary 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sing a distribution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ing in the execution of a contr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ssing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-Bra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or more companies create an informal partner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ort and Airline offer a vacation pack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are of advertising, increase marketabilit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301320"/>
            <a:ext cx="7692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n-Governmental Institutional Fundi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-card Compan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if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Financing Compan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rcial Bank Fu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 Card Lo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rt-term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nes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oor pl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truction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-term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l-estat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ters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ding The Right Ban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st people look to their primary ban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banks inclu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ney-center ban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per-regional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gional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ty ban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FRICTO Frame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e how to fund the busi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ek Deb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 Equ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Loan Application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lain the business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ication of the borrow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ication of the loan request and its tim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s for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sources of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h flow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x C’s of Credi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rac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pac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it Hist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mmon Reasons Loans are Deni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plete loan propos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supported cash flow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experienced Manag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bility to repay the lo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realistic revenue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realistic expense proj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estimated Capital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ck of adequate 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fter The Loan Is Approv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itment Let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an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missory No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urity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an Agre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amount of lo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ayment sched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trictive Covenants (2 Kind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ny’s represen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al Cond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osing fe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ault cond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to fix defaul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trictive Covenant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gative coven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can not do without banks approv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ffirmative coven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tions the company must tak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missory No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tains Key provisions of the lo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rm of the lo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ayment schedu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payment is 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ault description and reme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urity Agre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ails the lender’s interest in a specific piece of collater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so filed with the st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ther Non-Governmental Fund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rifts (Savings and Loa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tter ser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tter pric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axed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pecialized in mortg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mmercial Finance Loa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asier loan to obta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mercial Finance Assoc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Entrepreneurial Funding Probl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mand for small-business financing is greater than suppl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% of firms begin with less than $5000 in capit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ded by owner, family members, or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us most companies start under funded and stay that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ys the company’s receivables at a reduced pr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course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ny must buy back unsold produc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recourse Agre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s are the property of the factoring ag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ing Advanta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lerate cash fl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t dependent on credit of compan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duce debt need on balance she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duce staff need to move produc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quipment Leas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ing Leas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ssee can return equipment at any time with proper not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e payments are treated as operating expen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nance leas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not cancel lease without penal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w as a liability on Balance she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vernment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BA (Small Business Administratio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s Private lenders to man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ied 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r – SBA controls approval of the lo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ified – Heavily involved in SBA loa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ferred – Chosen by SBA has among the best len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fers both long term and short term loans through various progra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(a)  Guaranteed Lo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d Character, management, expertise, and commit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ibuting F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asibility pl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vestment in the bus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later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7(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PLines Program – Meet short term and season work capital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ort Working Capital – Working capital needs of Business expor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national Trade Loan – Those involved in international tra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LTA -  For small businesses affected by defense cu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croLoan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cuses on non-profit organizatio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an money is used to lend to other small business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ypically small loans up to $35,000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BA Progra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7360"/>
            <a:ext cx="746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04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rtified Development Company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an from a private sector len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collateral requi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 Business Administr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e and Local Government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nnsylvania Economic Develop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RED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DA-C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rrisburg - Mayor's Economic Development Off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Entrepreneurial Funding Probl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quity is hard to find for small busines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bt is hard to find (Loan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anies requesting funds often are under three years old and considered a ris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ive Stages of Financial Develop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rt-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difficult period for obtaining f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ment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pansion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wth Sta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ublic Offe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mall Firms vs Larger Fir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mall firms (under 100 Employe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6 % had line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9% had financial le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% had mortg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4% had equipment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4 % had motor-vehicl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mall Firms vs Larger Fir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rger Fi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60% had a line of cred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0% had financial le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% had mortgag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9% had equipment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6% had motor vehicle lo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nk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7% of these funds for small firms comes from commercial ban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ther suppliers inclu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nce compa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asing compan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non-financial institu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n-institutional Financ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cho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al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y and Frie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pplier finan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ler financ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usiness Incub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nchi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int ven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1:48:25Z</dcterms:created>
  <dc:creator>David McNaughton</dc:creator>
  <dc:description/>
  <dc:language>en-US</dc:language>
  <cp:lastModifiedBy>User</cp:lastModifiedBy>
  <dcterms:modified xsi:type="dcterms:W3CDTF">2010-10-15T14:52:33Z</dcterms:modified>
  <cp:revision>7</cp:revision>
  <dc:subject/>
  <dc:title>Chapter 9</dc:title>
</cp:coreProperties>
</file>